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6159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IVE-COLUMN JOUR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3" descr="D:\C21 PowerPoint\Multi_Journal\art for blue\Ch04\Ch04-01a.jpg"/>
          <p:cNvPicPr/>
          <p:nvPr/>
        </p:nvPicPr>
        <p:blipFill>
          <a:blip r:embed="rId1"/>
          <a:srcRect l="0" t="0" r="0" b="41515"/>
          <a:stretch/>
        </p:blipFill>
        <p:spPr>
          <a:xfrm>
            <a:off x="457200" y="1303200"/>
            <a:ext cx="8229600" cy="1467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457200" y="3132000"/>
            <a:ext cx="75438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a Jour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lp save time and become more efficient, businesses us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Amount Colum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d with an account tit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are used for frequently occurring transa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transaction is not headed with an account title it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mount Colum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57200" y="914400"/>
            <a:ext cx="8381880" cy="9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Journal include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bi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Credi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rts of the transactions in a single place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actions are recorded in a Journal by their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e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Entry Accoun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for each transaction recorded in a journal is called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try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recording of debit and credit parts of a transaction is called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ouble entry accounting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ource Docume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Check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Invoi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Sales Invoi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Receip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Memorandum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D:\C21 PowerPoint\Multi_Journal\art for blue\Ch04\Ch04-01b.jpg"/>
          <p:cNvPicPr/>
          <p:nvPr/>
        </p:nvPicPr>
        <p:blipFill>
          <a:blip r:embed="rId1"/>
          <a:srcRect l="31778" t="3796" r="0" b="52522"/>
          <a:stretch/>
        </p:blipFill>
        <p:spPr>
          <a:xfrm>
            <a:off x="1219320" y="1600200"/>
            <a:ext cx="674676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1, page 6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7632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INVO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1, page 6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0292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SOURCE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D:\C21 PowerPoint\Multi_Journal\art for blue\Ch04\Ch04-01e.jpg"/>
          <p:cNvPicPr/>
          <p:nvPr/>
        </p:nvPicPr>
        <p:blipFill>
          <a:blip r:embed="rId1"/>
          <a:srcRect l="0" t="0" r="0" b="55355"/>
          <a:stretch/>
        </p:blipFill>
        <p:spPr>
          <a:xfrm>
            <a:off x="3733920" y="1252440"/>
            <a:ext cx="4781520" cy="29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Text Box 8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1, page 6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2701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FROM OWNER AS AN INVES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1, page 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. Received cash from owner as an investment, $10,000.00. Receipt No.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D:\C21 PowerPoint\Multi_Journal\art for blue\Ch04\Ch04-01d.jpg"/>
          <p:cNvPicPr/>
          <p:nvPr/>
        </p:nvPicPr>
        <p:blipFill>
          <a:blip r:embed="rId1"/>
          <a:srcRect l="0" t="0" r="0" b="38400"/>
          <a:stretch/>
        </p:blipFill>
        <p:spPr>
          <a:xfrm>
            <a:off x="457200" y="1676520"/>
            <a:ext cx="7543800" cy="36464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FROM OWNER AS AN INVES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1, page 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. Received cash from owner as an investment, $10,000.00. Receipt No.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bara Treviño, Cap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’s equity accounts increase on the credit si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’s equity is increa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bara Treviño, Cap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owner’s equity accou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67" name="Group 17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68" name="Text Box 18"/>
              <p:cNvSpPr/>
              <p:nvPr/>
            </p:nvSpPr>
            <p:spPr>
              <a:xfrm>
                <a:off x="5757120" y="3581280"/>
                <a:ext cx="26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arbara Treviño, Capital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9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0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1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72" name="Text Box 22"/>
              <p:cNvSpPr/>
              <p:nvPr/>
            </p:nvSpPr>
            <p:spPr>
              <a:xfrm>
                <a:off x="6733440" y="15238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3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4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25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716328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5660640" y="25909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7679880" y="4878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7337160" y="4626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FROM OWNER AS AN INVES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1, page 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. Received cash from owner as an investment, $10,000.00. Receipt No.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D:\C21 PowerPoint\Multi_Journal\art for blue\Ch04\Ch04-01d.jpg"/>
          <p:cNvPicPr/>
          <p:nvPr/>
        </p:nvPicPr>
        <p:blipFill>
          <a:blip r:embed="rId1"/>
          <a:srcRect l="0" t="0" r="0" b="38400"/>
          <a:stretch/>
        </p:blipFill>
        <p:spPr>
          <a:xfrm>
            <a:off x="2971800" y="2971800"/>
            <a:ext cx="5029200" cy="2432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D:\C21 PowerPoint\Multi_Journal\GJ69.jpg"/>
          <p:cNvPicPr/>
          <p:nvPr/>
        </p:nvPicPr>
        <p:blipFill>
          <a:blip r:embed="rId2"/>
          <a:stretch/>
        </p:blipFill>
        <p:spPr>
          <a:xfrm>
            <a:off x="457200" y="1600200"/>
            <a:ext cx="8381880" cy="1136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0952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3"/>
          <p:cNvGrpSpPr/>
          <p:nvPr/>
        </p:nvGrpSpPr>
        <p:grpSpPr>
          <a:xfrm>
            <a:off x="380880" y="1981080"/>
            <a:ext cx="2667240" cy="1295640"/>
            <a:chOff x="380880" y="1981080"/>
            <a:chExt cx="2667240" cy="1295640"/>
          </a:xfrm>
        </p:grpSpPr>
        <p:sp>
          <p:nvSpPr>
            <p:cNvPr id="88" name="Oval 25"/>
            <p:cNvSpPr/>
            <p:nvPr/>
          </p:nvSpPr>
          <p:spPr>
            <a:xfrm>
              <a:off x="380880" y="19810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>
              <a:off x="914400" y="2666880"/>
              <a:ext cx="2133720" cy="6098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4"/>
          <p:cNvGrpSpPr/>
          <p:nvPr/>
        </p:nvGrpSpPr>
        <p:grpSpPr>
          <a:xfrm>
            <a:off x="4114800" y="2057400"/>
            <a:ext cx="3352680" cy="2114280"/>
            <a:chOff x="4114800" y="2057400"/>
            <a:chExt cx="3352680" cy="2114280"/>
          </a:xfrm>
        </p:grpSpPr>
        <p:sp>
          <p:nvSpPr>
            <p:cNvPr id="91" name="Oval 28"/>
            <p:cNvSpPr/>
            <p:nvPr/>
          </p:nvSpPr>
          <p:spPr>
            <a:xfrm>
              <a:off x="6781680" y="20574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5"/>
            <p:cNvSpPr/>
            <p:nvPr/>
          </p:nvSpPr>
          <p:spPr>
            <a:xfrm flipV="1">
              <a:off x="4114800" y="2666520"/>
              <a:ext cx="3352680" cy="1505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6"/>
          <p:cNvGrpSpPr/>
          <p:nvPr/>
        </p:nvGrpSpPr>
        <p:grpSpPr>
          <a:xfrm>
            <a:off x="3124080" y="2133720"/>
            <a:ext cx="457200" cy="933480"/>
            <a:chOff x="3124080" y="2133720"/>
            <a:chExt cx="457200" cy="933480"/>
          </a:xfrm>
        </p:grpSpPr>
        <p:sp>
          <p:nvSpPr>
            <p:cNvPr id="94" name="Oval 27"/>
            <p:cNvSpPr/>
            <p:nvPr/>
          </p:nvSpPr>
          <p:spPr>
            <a:xfrm>
              <a:off x="3124080" y="21337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7"/>
            <p:cNvSpPr/>
            <p:nvPr/>
          </p:nvSpPr>
          <p:spPr>
            <a:xfrm>
              <a:off x="3429000" y="2610000"/>
              <a:ext cx="152280" cy="4572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38"/>
          <p:cNvSpPr/>
          <p:nvPr/>
        </p:nvSpPr>
        <p:spPr>
          <a:xfrm>
            <a:off x="209520" y="4708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209520" y="3718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Cas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209520" y="40910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Barbara Treviño, Capi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5"/>
          <p:cNvGrpSpPr/>
          <p:nvPr/>
        </p:nvGrpSpPr>
        <p:grpSpPr>
          <a:xfrm>
            <a:off x="2666880" y="2514600"/>
            <a:ext cx="2971800" cy="1676520"/>
            <a:chOff x="2666880" y="2514600"/>
            <a:chExt cx="2971800" cy="1676520"/>
          </a:xfrm>
        </p:grpSpPr>
        <p:sp>
          <p:nvSpPr>
            <p:cNvPr id="100" name="Oval 26"/>
            <p:cNvSpPr/>
            <p:nvPr/>
          </p:nvSpPr>
          <p:spPr>
            <a:xfrm>
              <a:off x="4800600" y="25146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1"/>
            <p:cNvGrpSpPr/>
            <p:nvPr/>
          </p:nvGrpSpPr>
          <p:grpSpPr>
            <a:xfrm>
              <a:off x="2666880" y="2666880"/>
              <a:ext cx="704880" cy="1257480"/>
              <a:chOff x="2666880" y="2666880"/>
              <a:chExt cx="704880" cy="1257480"/>
            </a:xfrm>
          </p:grpSpPr>
          <p:sp>
            <p:nvSpPr>
              <p:cNvPr id="102" name="Freeform 31"/>
              <p:cNvSpPr/>
              <p:nvPr/>
            </p:nvSpPr>
            <p:spPr>
              <a:xfrm>
                <a:off x="2914560" y="3390840"/>
                <a:ext cx="457200" cy="53352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2"/>
              <p:cNvSpPr/>
              <p:nvPr/>
            </p:nvSpPr>
            <p:spPr>
              <a:xfrm>
                <a:off x="2666880" y="2666880"/>
                <a:ext cx="228600" cy="99072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Line 34"/>
            <p:cNvSpPr/>
            <p:nvPr/>
          </p:nvSpPr>
          <p:spPr>
            <a:xfrm flipV="1">
              <a:off x="4114800" y="2666880"/>
              <a:ext cx="1523880" cy="1524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42"/>
            <p:cNvSpPr/>
            <p:nvPr/>
          </p:nvSpPr>
          <p:spPr>
            <a:xfrm>
              <a:off x="2666880" y="37339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"/>
          <p:cNvSpPr/>
          <p:nvPr/>
        </p:nvSpPr>
        <p:spPr>
          <a:xfrm>
            <a:off x="228600" y="569124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SUPPL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D:\C21 PowerPoint\Multi_Journal\art for blue\Ch04\Ch04-01g.jpg"/>
          <p:cNvPicPr/>
          <p:nvPr/>
        </p:nvPicPr>
        <p:blipFill>
          <a:blip r:embed="rId1"/>
          <a:srcRect l="0" t="0" r="0" b="32804"/>
          <a:stretch/>
        </p:blipFill>
        <p:spPr>
          <a:xfrm>
            <a:off x="457200" y="914400"/>
            <a:ext cx="8229600" cy="1355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1, page 7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D:\C21 PowerPoint\Multi_Journal\art for blue\Ch04\Ch04-01b.jpg"/>
          <p:cNvPicPr/>
          <p:nvPr/>
        </p:nvPicPr>
        <p:blipFill>
          <a:blip r:embed="rId2"/>
          <a:srcRect l="0" t="3796" r="0" b="52522"/>
          <a:stretch/>
        </p:blipFill>
        <p:spPr>
          <a:xfrm>
            <a:off x="457200" y="2362320"/>
            <a:ext cx="7543800" cy="2441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228600" y="4952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28600" y="605484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28600" y="5318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Suppl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4"/>
          <p:cNvGrpSpPr/>
          <p:nvPr/>
        </p:nvGrpSpPr>
        <p:grpSpPr>
          <a:xfrm>
            <a:off x="1752120" y="1676520"/>
            <a:ext cx="5105880" cy="2437920"/>
            <a:chOff x="1752120" y="1676520"/>
            <a:chExt cx="5105880" cy="2437920"/>
          </a:xfrm>
        </p:grpSpPr>
        <p:sp>
          <p:nvSpPr>
            <p:cNvPr id="115" name="Oval 21"/>
            <p:cNvSpPr/>
            <p:nvPr/>
          </p:nvSpPr>
          <p:spPr>
            <a:xfrm>
              <a:off x="1905120" y="1676520"/>
              <a:ext cx="304560" cy="3045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6"/>
            <p:cNvSpPr/>
            <p:nvPr/>
          </p:nvSpPr>
          <p:spPr>
            <a:xfrm>
              <a:off x="4038480" y="1676520"/>
              <a:ext cx="304920" cy="3045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 flipH="1" flipV="1">
              <a:off x="1752120" y="2133360"/>
              <a:ext cx="1600200" cy="1981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 flipH="1" flipV="1">
              <a:off x="4648320" y="2133360"/>
              <a:ext cx="220968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7"/>
          <p:cNvGrpSpPr/>
          <p:nvPr/>
        </p:nvGrpSpPr>
        <p:grpSpPr>
          <a:xfrm>
            <a:off x="7467480" y="1676520"/>
            <a:ext cx="1295640" cy="1523520"/>
            <a:chOff x="7467480" y="1676520"/>
            <a:chExt cx="1295640" cy="1523520"/>
          </a:xfrm>
        </p:grpSpPr>
        <p:sp>
          <p:nvSpPr>
            <p:cNvPr id="120" name="Oval 23"/>
            <p:cNvSpPr/>
            <p:nvPr/>
          </p:nvSpPr>
          <p:spPr>
            <a:xfrm>
              <a:off x="8458200" y="1676520"/>
              <a:ext cx="304920" cy="3045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 flipV="1">
              <a:off x="7467480" y="2133360"/>
              <a:ext cx="53352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46"/>
          <p:cNvGrpSpPr/>
          <p:nvPr/>
        </p:nvGrpSpPr>
        <p:grpSpPr>
          <a:xfrm>
            <a:off x="3124080" y="1676520"/>
            <a:ext cx="3505320" cy="939600"/>
            <a:chOff x="3124080" y="1676520"/>
            <a:chExt cx="3505320" cy="939600"/>
          </a:xfrm>
        </p:grpSpPr>
        <p:sp>
          <p:nvSpPr>
            <p:cNvPr id="123" name="Oval 28"/>
            <p:cNvSpPr/>
            <p:nvPr/>
          </p:nvSpPr>
          <p:spPr>
            <a:xfrm>
              <a:off x="3124080" y="1676520"/>
              <a:ext cx="304920" cy="3045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>
              <a:off x="3657600" y="2133720"/>
              <a:ext cx="2971800" cy="482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5"/>
          <p:cNvGrpSpPr/>
          <p:nvPr/>
        </p:nvGrpSpPr>
        <p:grpSpPr>
          <a:xfrm>
            <a:off x="762120" y="1676520"/>
            <a:ext cx="5181480" cy="1244520"/>
            <a:chOff x="762120" y="1676520"/>
            <a:chExt cx="5181480" cy="1244520"/>
          </a:xfrm>
        </p:grpSpPr>
        <p:sp>
          <p:nvSpPr>
            <p:cNvPr id="126" name="Oval 16"/>
            <p:cNvSpPr/>
            <p:nvPr/>
          </p:nvSpPr>
          <p:spPr>
            <a:xfrm>
              <a:off x="762120" y="1676520"/>
              <a:ext cx="304560" cy="3045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3"/>
            <p:cNvSpPr/>
            <p:nvPr/>
          </p:nvSpPr>
          <p:spPr>
            <a:xfrm>
              <a:off x="1219320" y="2133720"/>
              <a:ext cx="4724280" cy="7873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4:29:08Z</dcterms:created>
  <dc:creator>Mary Colleen McLaughlin</dc:creator>
  <dc:description/>
  <dc:language>en-US</dc:language>
  <cp:lastModifiedBy>David Combs</cp:lastModifiedBy>
  <cp:lastPrinted>1999-04-20T04:30:57Z</cp:lastPrinted>
  <dcterms:modified xsi:type="dcterms:W3CDTF">2011-10-04T21:40:24Z</dcterms:modified>
  <cp:revision>16</cp:revision>
  <dc:subject/>
  <dc:title>THE ACCOUNTING EQUATION</dc:title>
</cp:coreProperties>
</file>